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DF65-0D28-4524-8009-AB7718A74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046C-3D89-4D4E-8587-CA3E8DC8C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3A39-CABC-47D4-82AA-97F123A5F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81D9-E58D-4254-B05A-0584E762A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1203-E576-4F6A-B3DD-493ED525F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819A-F6FB-45E7-95DD-7DA00B6FF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D526-A89D-4644-8C1C-2DD667090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F0F9-29F2-4EDB-B15C-24CF143D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1448-7A66-4FF7-BB06-521393893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83F4-343D-42CF-A60F-07D1443CB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A73D-98B2-44DF-8B0B-278FF793E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D76B-7BBF-46AF-9CA2-EFCD83A72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FB95-A54B-4FC1-A225-732CA10B7D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96FD-664F-400A-BB64-475ECBD1A6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2CDF-CC12-493D-9230-23B8D898B0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2FE3-1014-460B-9323-AD9D7AE33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D61D-2DE3-4D0C-BE4A-3399AD8D27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D22-8440-4C1C-8905-F15D4971C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0F3-2A77-4C62-A687-628D857754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DB12-1E8B-47A3-9FBF-0EB6E9D50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BD3-82C4-4953-BDA0-5D9F9EB9FA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882-B88E-4D91-91A4-96B11172D6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2D3-9FCC-4D1D-9F0B-7ED8F7A995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C160-79C7-4905-8282-37453C2831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FF6-708C-49BF-8930-64934B294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AE8-445A-401F-89B9-C75F5605B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1AD7-D054-46E6-956B-42108D481E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D7A-0FA6-466C-B56A-4098AD6E55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3CB2-3C8B-465E-AA1B-7545CD7544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C266-BDE6-4DE8-87B7-5E0F0ABAB6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8DD2-AFD1-424A-AA2E-24198E3B9D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1F3-A661-4B8A-AAF5-BF38B3082E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F3B1-D6CC-402F-80DD-0497517FF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B22-582B-4981-81DC-F2CE59ACF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0A9D-84B4-4505-BE57-6780C145C0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392-AB5D-41CC-ACEB-F0C4705C20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5T03:04:20Z</dcterms:modified>
  <cp:revision>38</cp:revision>
  <dc:subject/>
  <dc:title>&lt;Title&gt;</dc:title>
</cp:coreProperties>
</file>